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925D8-064F-4FA9-A5F6-E7FC550B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3C88-E4F2-4956-90DB-4B71DAAC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FD3C-4787-4A4C-A93D-A4792941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1C55D-F0A6-4D4D-A8BC-50B7C9FF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81E0-A7EB-4F28-971C-EC9038C5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1DFE-5A12-44FD-984F-CA0C8574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6C80-79E6-4513-9F6D-73E86EE7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0AE9-92B6-4D5D-9624-7A5A1327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7047-6F41-4B58-B3B9-30B0656B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9942-9F27-431C-8FD6-278897B7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0ECB-4922-4841-92F7-8038FA57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C090A-1A38-4BAF-A34C-EAE72694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5A73-6B90-4483-898B-CD2DB804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16E8-A367-4E8D-AFE9-0B078EF1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9D06-8D7C-40B5-8A62-48EB475E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BC4F-B0C4-4B59-A589-46443047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4801-AB17-4CE8-83E2-77A1F393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E1E00-EBF7-4F97-8ADA-3D9FCCDA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90FF5-3932-4EDF-AAA6-CB2906B1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6EE2-2E60-4765-B76D-9F58C506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70A99-73E3-4897-B1DE-C84CF745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76F2D-2D88-4AAA-97A0-D5AA2965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1626-B0EA-48E8-8756-F893F124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98CD4-2CDF-40FA-BF1A-C167528A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7E5B-3083-4D82-9833-69B1D1BD60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40E3-A1F7-454F-B047-6E7DAADC86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Dissection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219320" y="4495680"/>
            <a:ext cx="7619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have students do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ssections require: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1333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efully planned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maturity and resp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 techniq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ation of student belie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75248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llinois schools ar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equire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 include information on dissection alternatives in their course listings.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rman2789l"/>
          <p:cNvPicPr/>
          <p:nvPr/>
        </p:nvPicPr>
        <p:blipFill>
          <a:blip r:embed="rId1"/>
          <a:srcRect l="0" t="4800" r="5470" b="0"/>
          <a:stretch/>
        </p:blipFill>
        <p:spPr>
          <a:xfrm>
            <a:off x="5334120" y="2666880"/>
            <a:ext cx="3452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62120" y="630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base_media"/>
          <p:cNvPicPr/>
          <p:nvPr/>
        </p:nvPicPr>
        <p:blipFill>
          <a:blip r:embed="rId2"/>
          <a:stretch/>
        </p:blipFill>
        <p:spPr>
          <a:xfrm>
            <a:off x="5943600" y="1297080"/>
            <a:ext cx="2827440" cy="2827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2057400" y="236844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lternatives to Dissec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3962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-dissected anim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sectible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shr0488l"/>
          <p:cNvPicPr/>
          <p:nvPr/>
        </p:nvPicPr>
        <p:blipFill>
          <a:blip r:embed="rId1"/>
          <a:srcRect l="10000" t="26667" r="20000" b="0"/>
          <a:stretch/>
        </p:blipFill>
        <p:spPr>
          <a:xfrm>
            <a:off x="4572000" y="2133720"/>
            <a:ext cx="41068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olest Dissection Model Ever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ontent Placeholder 3" descr=""/>
          <p:cNvPicPr/>
          <p:nvPr/>
        </p:nvPicPr>
        <p:blipFill>
          <a:blip r:embed="rId1"/>
          <a:stretch/>
        </p:blipFill>
        <p:spPr>
          <a:xfrm>
            <a:off x="1994040" y="1981080"/>
            <a:ext cx="5155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8:26:49Z</dcterms:created>
  <dc:creator>Cynthia Moore</dc:creator>
  <dc:description/>
  <dc:language>en-US</dc:language>
  <cp:lastModifiedBy>Cynthia J. Moore</cp:lastModifiedBy>
  <dcterms:modified xsi:type="dcterms:W3CDTF">2011-05-18T17:16:36Z</dcterms:modified>
  <cp:revision>27</cp:revision>
  <dc:subject/>
  <dc:title>Animals in the Classroom</dc:title>
</cp:coreProperties>
</file>